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641-F8A0-40E4-826D-46726FC670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358B-0882-4207-8745-911BD04807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AAF7-A018-4FF3-954C-FE9F10D21C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382-DF11-458E-8EA1-48846A08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088-63FB-4050-9ED1-DA3EFD6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0E7-8225-43BB-8B4E-FB140D5E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49F-D2FD-4C60-9C2B-5A05E6BB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DFC1-494F-41A1-88EC-BD7D0188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C43B-3F0B-4798-A23C-F7A9F1D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1747-AC85-492E-BA9E-6C367CC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3250-EC06-4A16-B17D-43C7251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892E-C029-4549-B81A-DDFECCB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E24-0F5E-4A26-98CC-6862F80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248E-30D2-4714-8DF8-BE931DC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D24-231F-4E8A-BFC7-8A15AD5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B5BB-7BC9-422B-B627-1945588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E51B-29F9-49EB-B93E-047BD4D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3176-6A6F-42D3-AA44-0691E067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85F3-C52A-4A82-A971-BF9D0D11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4131-454D-4CF4-B56C-70C60C1C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5089-23A2-4266-BCE3-7202F53A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3F1C-C371-4680-96F8-BD4C995B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57F9-EF47-4924-8D8D-5B5D559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7EEE-A8F0-4936-AC20-6124A7B6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CF5F-EFEB-4D34-B77A-905DD91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092-DA33-40D5-9F53-C6C72A1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5206-CC18-4EA2-9D45-581EC8CC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C47F-FE82-49DD-8F2E-B14BCBA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C0C0-E6A1-4210-9CFE-4350434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92A9-0374-4205-94BE-69ED7C9F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E4CD-55A5-4112-9F98-4E0D080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834C-0BF3-4C32-9464-B3F68342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24BB-8743-4D52-B24D-A4257ACA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E6BA-ABC0-4752-B322-DF1D36CB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3A6C-7909-4ABB-A422-716B3BE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F0E5-F4FF-4A6B-B8C2-A67BA8A3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78A-92E6-4860-AA89-CAB42965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1803-8EE5-45F3-B135-B4AC3B3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B729-31D7-4021-A25E-4A3CC247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12E79-B65B-472E-9CA6-9F60B13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D8E79-098C-430E-9C86-75D04E3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5BCF-7B79-4DBC-965D-6230D92F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F6B54-E534-42E3-BA83-D8FEF98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C2BC-91AA-4CC3-8D0F-4F204BB9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D2CF-CFA2-4347-B7E0-2EA2DA53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A017-D0E3-41FE-9274-5B3158CF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B5B02-225B-490C-8B62-1E122CE5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63F-0031-42E9-990F-E0D6DA4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E2ED-1E89-4C28-90D3-3E9E26B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5E59-F621-43EF-9788-3E4F245A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2BB2-89C6-46EC-BB57-8D1D719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2E37-4F45-4260-8B14-30CB2986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70B6-EFEE-4B74-A9DE-50625B5E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1FF0-E24C-4861-A41D-3C27850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896A-D22A-4949-B525-B472FE3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9382-2C94-4ACA-ADEB-768320E4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230B-22B9-4E88-A2E4-BEA61E1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3E6F-E950-4ECB-9F14-841CA8BC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56-757B-41B3-8CA3-590EF7FF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1BF9-36FA-4EBB-995E-B34E0990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A9AA-D1FA-42AC-807E-BBD4E72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7A14-575B-46B1-BEFC-EB22409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A7471-6C86-4CDA-8FF7-9396D5A5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BF0E-5416-4C9A-BA7E-2DB0CCBE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CD7E-2E5C-4E48-8BBD-1E34ABC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EE60-5F1E-497D-BA60-18A54C8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C3A0-DD77-40CC-94E4-23A6D4A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1C04-968F-4F46-987E-0A0B02E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38F4D-3DF2-4232-BAC0-067D914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ACB-C2AB-47B9-9430-186F17E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8B9C6-6BC7-40EB-8477-2461DD5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9C6B-6A1B-44CB-A040-F3D1C81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CF2D-93D7-4E41-B294-5454CFDA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C89-73F0-47D7-9E48-45886C4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250-AF35-4E22-BDBB-EE2599C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31F5-D42F-46EB-985B-28F61344788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60CD-8EBD-41FE-997C-90EAE849BBA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10F1-D9C6-42B1-8DA9-179AA988B31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E52-142E-4BE9-8BBD-00447A34BC07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DBBC-B2A7-45BE-8A94-DF473772C08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8879-A0E8-41EE-8EC2-B270B19AE3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007E-ED81-451C-97E6-D1AA4DB4D2F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8A3-7C27-4A33-9F96-5102609E08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D23-A5B1-414D-A4CD-BF3535D8391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6EBD-C945-4C06-91D8-716161084B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AD07-825F-4736-9AD5-50781E85505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4218-5ECF-4ABA-A73C-3D9A7C2CDA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l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080144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08014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01680" y="1413000"/>
            <a:ext cx="108345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lho (2016 e 2017) – Em R$ milhões de Jul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338120"/>
            <a:ext cx="108014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l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535040"/>
            <a:ext cx="10801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l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1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1-26T10:42:46Z</cp:lastPrinted>
  <dcterms:modified xsi:type="dcterms:W3CDTF">2017-08-23T18:41:30Z</dcterms:modified>
  <cp:revision>430</cp:revision>
  <dc:subject/>
  <dc:title>Demografia</dc:title>
</cp:coreProperties>
</file>